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FE1-7957-463D-BC0E-7976490A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39B-F4AF-4B8E-89F9-14EF66FC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18B-46D9-4AC3-9C27-2846364D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5EC-D78E-4F9B-BAC8-7BFC7AAA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E423-EE87-40B5-81C5-0DAB7520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6C37-312B-4EC1-A478-F63721BE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B80C-081F-4FE8-9F19-7EA76E3D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D9CD-019D-45D5-B635-78975078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42F3-8489-4623-8D01-A405FECD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9F77-EAB2-407E-8634-712DB8F1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29AF-CE09-4E5D-8117-0166650F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F8A-3847-4FBD-B77C-F375BCA5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A9D9-62AA-4C21-ABED-C135C36E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6A4F-D68B-41B0-A5ED-AFC25F65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D832-1978-430D-BD8F-D011D99D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310E-F53D-4F77-BF66-9EE6EA6E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C15F-CF12-43AD-B883-52BF5E59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1F6-32FF-474A-A842-D00AB62B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2A0-FD2D-4DAA-ABA5-2EBDC5BD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31F-78B1-48EA-A699-B0F45DE6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E4D-86B2-4F6F-98DD-9AE6EDBA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B72-559D-45F3-8186-3727E4EF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2DE-7C87-43A6-9D9E-AF28586D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380-D31B-41E1-99BF-1403D43F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875F-4275-4010-9966-0C335F0045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5A84-C93B-4261-9E8B-4E1CB1177D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ideon; Abimelech; Tola; and Jair</a:t>
            </a: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Judges 8:4 - 9:57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3; Lesson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74-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429000"/>
            <a:ext cx="8076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Judg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h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o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mel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z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01000" y="5867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121932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The Periods of Bible History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505620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arly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etters to 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124080"/>
            <a:ext cx="4267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andering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nquest of Can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715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The Jud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121932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312408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 repeatCount="100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 repeatCount="100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 repeatCount="100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0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1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2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3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5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6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7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8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9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50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51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52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53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4:18:46Z</dcterms:created>
  <dc:creator>Frank D Vines</dc:creator>
  <dc:description/>
  <dc:language>en-US</dc:language>
  <cp:lastModifiedBy>Terry Benton</cp:lastModifiedBy>
  <dcterms:modified xsi:type="dcterms:W3CDTF">2005-02-12T03:17:51Z</dcterms:modified>
  <cp:revision>4</cp:revision>
  <dc:subject/>
  <dc:title>Slide 1</dc:title>
</cp:coreProperties>
</file>